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006C-221C-4916-9DD3-5696088B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1037-442B-4707-BCF3-10F09E78F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815-A1C0-4D73-93C6-49369DAD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451-6740-4FD0-BE1C-A175F178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77F-6194-4A5C-ACC7-FEFFB07B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2F0-66F0-4F52-9BC8-6BE089AA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073-DBB2-454F-9C0E-25408055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291-58D6-40D4-A0CF-271B4DC6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150-1326-4FBE-B566-DF1FEF42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BE4-9F6C-4F2C-9450-FAF44A36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C6A-0FF5-463B-8F8C-EB02DD9D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C7F-AE5C-4494-A1A1-31836B38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840-CF14-43F4-9E73-00471530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F13-1C86-49F4-BD1A-13E80514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E801-8AB8-4B74-93FA-5F8197995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hfooza Chou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hfooza Choudh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28600" y="22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Ver fotos de Mahfooza Choudhu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nviar mensaje a Mahfooza Choudhu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971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olpea a Mahfooza Choudhu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 como estas Nou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 flipV="1">
            <a:off x="152280" y="3352680"/>
            <a:ext cx="1600200" cy="763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Zena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nombre es Mahfooza Choudhury. Mi escuela es TYWLS de Astoria. Tengo 14 años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toy en el grado 9. Mi color favorite es el Azul. Amo lee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77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e siento muy feliz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enas dias Mahfooza. Y tu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Buenas Días Noureen? Como estas hoy?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oy feliz porque es su cumpleaños mañana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5909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849960" y="64771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-1.png"/>
          <p:cNvPicPr/>
          <p:nvPr/>
        </p:nvPicPr>
        <p:blipFill>
          <a:blip r:embed="rId1"/>
          <a:stretch/>
        </p:blipFill>
        <p:spPr>
          <a:xfrm>
            <a:off x="76320" y="5257800"/>
            <a:ext cx="609480" cy="45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Photo on 12-4-12 at 8.58 AM #3.jpg"/>
          <p:cNvPicPr/>
          <p:nvPr/>
        </p:nvPicPr>
        <p:blipFill>
          <a:blip r:embed="rId2"/>
          <a:stretch/>
        </p:blipFill>
        <p:spPr>
          <a:xfrm>
            <a:off x="152280" y="533520"/>
            <a:ext cx="167976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9" descr="Photo on 12-4-12 at 8.58 AM #3.jpg"/>
          <p:cNvPicPr/>
          <p:nvPr/>
        </p:nvPicPr>
        <p:blipFill>
          <a:blip r:embed="rId3"/>
          <a:stretch/>
        </p:blipFill>
        <p:spPr>
          <a:xfrm>
            <a:off x="2057400" y="2514600"/>
            <a:ext cx="56052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0" descr="Photo on 12-4-12 at 8.58 AM #3.jpg"/>
          <p:cNvPicPr/>
          <p:nvPr/>
        </p:nvPicPr>
        <p:blipFill>
          <a:blip r:embed="rId4"/>
          <a:stretch/>
        </p:blipFill>
        <p:spPr>
          <a:xfrm>
            <a:off x="2057400" y="3886200"/>
            <a:ext cx="56052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1" descr="Photo on 12-4-12 at 8.58 AM #3.jpg"/>
          <p:cNvPicPr/>
          <p:nvPr/>
        </p:nvPicPr>
        <p:blipFill>
          <a:blip r:embed="rId5"/>
          <a:stretch/>
        </p:blipFill>
        <p:spPr>
          <a:xfrm>
            <a:off x="2057400" y="5105520"/>
            <a:ext cx="560520" cy="533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Photo on 12-4-12 at 9-1.jpeg"/>
          <p:cNvPicPr/>
          <p:nvPr/>
        </p:nvPicPr>
        <p:blipFill>
          <a:blip r:embed="rId6"/>
          <a:stretch/>
        </p:blipFill>
        <p:spPr>
          <a:xfrm>
            <a:off x="1371600" y="5257800"/>
            <a:ext cx="609480" cy="406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hoto on 12-4-12 at 9.jpeg"/>
          <p:cNvPicPr/>
          <p:nvPr/>
        </p:nvPicPr>
        <p:blipFill>
          <a:blip r:embed="rId7"/>
          <a:stretch/>
        </p:blipFill>
        <p:spPr>
          <a:xfrm>
            <a:off x="762120" y="5334120"/>
            <a:ext cx="533160" cy="355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5" descr="Photo on 12-4-12 at 9.jpeg"/>
          <p:cNvPicPr/>
          <p:nvPr/>
        </p:nvPicPr>
        <p:blipFill>
          <a:blip r:embed="rId8"/>
          <a:stretch/>
        </p:blipFill>
        <p:spPr>
          <a:xfrm>
            <a:off x="2057400" y="3276720"/>
            <a:ext cx="533520" cy="355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6" descr="Photo on 12-4-12 at 9.jpeg"/>
          <p:cNvPicPr/>
          <p:nvPr/>
        </p:nvPicPr>
        <p:blipFill>
          <a:blip r:embed="rId9"/>
          <a:stretch/>
        </p:blipFill>
        <p:spPr>
          <a:xfrm>
            <a:off x="2057400" y="4572000"/>
            <a:ext cx="533520" cy="35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7" descr="Photo on 12-4-12 at 9.jpeg"/>
          <p:cNvPicPr/>
          <p:nvPr/>
        </p:nvPicPr>
        <p:blipFill>
          <a:blip r:embed="rId10"/>
          <a:stretch/>
        </p:blipFill>
        <p:spPr>
          <a:xfrm>
            <a:off x="2057400" y="5943600"/>
            <a:ext cx="53352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3:43:18Z</dcterms:created>
  <dc:creator>FriscoISD</dc:creator>
  <dc:description/>
  <dc:language>en-US</dc:language>
  <cp:lastModifiedBy>User</cp:lastModifiedBy>
  <dcterms:modified xsi:type="dcterms:W3CDTF">2012-12-06T14:03:06Z</dcterms:modified>
  <cp:revision>103</cp:revision>
  <dc:subject/>
  <dc:title>Profile</dc:title>
</cp:coreProperties>
</file>